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190-FAB9-4A96-BDE6-D3939CD7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35C-1C48-48B9-866E-678C9DCF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466A-5C10-4BF5-9942-625AE44A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9A78-0BF6-437E-91E0-C7E8D8AE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8A72-E01A-4490-885E-0A97418C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F9D8-E6EE-400A-85DC-2561BED1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D902-2A45-4396-8BF1-1DC5D230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6C41-72D4-471F-AA86-AA49B8CC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9ACD-3057-4F03-B4A3-1BA4ECE6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87BB-85CA-4945-AE93-A407282B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D7F4-45B2-4E7A-9DC9-47E69D4A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09E4-8C1C-4865-98ED-1199CDB7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B9D5-A5E8-419C-9C58-6FC7A0CB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30BD-691B-4832-BC9C-2053AAB8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43F5-36DA-484F-A0D8-03EDE410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CC7A-8924-4B7E-AB79-995B8BF7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63F5-DA39-4659-9147-BB8522CB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B545-FA16-452F-85F8-9C3CE149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6F12-16A7-4DA9-8268-293AA272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2E3-FE43-448D-8DEE-6E3C11E2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546E-CD16-47CC-9F3C-E0B21589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A280-4E48-4F95-9FD5-DBF3CFEC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BCC7-3F95-45EA-9742-BD50E535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49FC-9217-4C49-A2F2-05180D64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DD91-A621-45F4-BAB6-78C827B12BB8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50" name="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53" name="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921B-D959-4710-87E1-65454AFA3755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cc00cc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cc00cc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cc00cc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ddddd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ddddd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1066680"/>
            <a:ext cx="7772400" cy="198144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Sir, We Would See Jesus”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The Life of Christ, Part 1</a:t>
            </a:r>
            <a:endParaRPr b="0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8399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Quarter 9, Lesson 21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Mark 8:31 – 9:32; Matt. 17:24-27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Pages 78-83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28A2-5420-467E-9FC1-52D89242CF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Jesus Heals A Demoniac Boy</a:t>
            </a:r>
            <a:br>
              <a:rPr sz="4000"/>
            </a:br>
            <a:r>
              <a:rPr b="0" lang="en-US" sz="2800" spc="-1" strike="noStrike">
                <a:solidFill>
                  <a:srgbClr val="00cccc"/>
                </a:solidFill>
                <a:latin typeface="Arial"/>
              </a:rPr>
              <a:t>Mark 9:14-29; Matt. 17:14-20; Luke 9:37-43</a:t>
            </a:r>
            <a:endParaRPr b="0" lang="en-US" sz="28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After leaving the mountain, Jesus found the scribes questioning His disciple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A man begged Jesus to heal his demon- possessed so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Earlier, His disciples could not heal him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Jesus cast out the foul spirit from the boy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His disciples asked why they could not heal him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B1C8-4654-48E3-8408-36D48401E7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His Death and Resurrection</a:t>
            </a:r>
            <a:br>
              <a:rPr sz="4000"/>
            </a:br>
            <a:r>
              <a:rPr b="0" lang="en-US" sz="2800" spc="-1" strike="noStrike">
                <a:solidFill>
                  <a:srgbClr val="00cccc"/>
                </a:solidFill>
                <a:latin typeface="Arial"/>
              </a:rPr>
              <a:t>Mark 9:30-32; Matt. 17:22-23; Luke 9:43-45</a:t>
            </a:r>
            <a:endParaRPr b="0" lang="en-US" sz="28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Jesus </a:t>
            </a: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again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 taught His disciples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He would be delivered into the hands of me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hey will kill Him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He would rise the third da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y could not comprehend His teaching and it caused them much sorrow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Jesus wanted them to be sure to remember these facts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621-74DA-45D6-BEE4-A432BECFD5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Jesus Pays Taxes</a:t>
            </a:r>
            <a:br>
              <a:rPr sz="2800"/>
            </a:br>
            <a:r>
              <a:rPr b="0" lang="en-US" sz="2400" spc="-1" strike="noStrike">
                <a:solidFill>
                  <a:srgbClr val="00cccc"/>
                </a:solidFill>
                <a:latin typeface="Arial"/>
              </a:rPr>
              <a:t>Matt. 17:24-27</a:t>
            </a:r>
            <a:endParaRPr b="0" lang="en-US" sz="2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tax collectors contacted Peter about Jesus paying the temple tax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Jesus explained that He did not have to pay the tax, but did anyway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He again showed Peter that He was the Son of Go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Jesus performed a miracle for Peter to get the money to pay the tax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C78D-189D-4049-9063-47174F717C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Jesus Foretells His Death</a:t>
            </a:r>
            <a:br>
              <a:rPr sz="4000"/>
            </a:br>
            <a:r>
              <a:rPr b="0" lang="en-US" sz="2800" spc="-1" strike="noStrike">
                <a:solidFill>
                  <a:srgbClr val="00cccc"/>
                </a:solidFill>
                <a:latin typeface="Arial"/>
              </a:rPr>
              <a:t>Mark 8:31-37; Matt. 16:21-26; Luke 9:22-25</a:t>
            </a:r>
            <a:endParaRPr b="0" lang="en-US" sz="28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Jesus taught His disciples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He would suffer many thing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elders, chief priests, scribes would reject Him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He would be kille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n, after three days, He would rise from the dea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B65-A6E1-411F-B8C7-FA0A982B31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Jesus Foretells His Death</a:t>
            </a:r>
            <a:br>
              <a:rPr sz="4000"/>
            </a:br>
            <a:r>
              <a:rPr b="0" lang="en-US" sz="2800" spc="-1" strike="noStrike">
                <a:solidFill>
                  <a:srgbClr val="00cccc"/>
                </a:solidFill>
                <a:latin typeface="Arial"/>
              </a:rPr>
              <a:t>Mark 8:31-37; Matt. 16:21-26; Luke 9:22-25</a:t>
            </a:r>
            <a:endParaRPr b="0" lang="en-US" sz="28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 disciples were shocke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y were still looking forward to an earthly king and kingdom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Peter rebuked Jesus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his will not happen to you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Jesus rebuked Peter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You are thinking like a ma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9D1-2F5C-4BA7-8867-E1A585E7C3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Jesus Foretells His Resurrection</a:t>
            </a:r>
            <a:br>
              <a:rPr sz="4000"/>
            </a:br>
            <a:r>
              <a:rPr b="0" lang="en-US" sz="2800" spc="-1" strike="noStrike">
                <a:solidFill>
                  <a:srgbClr val="00cccc"/>
                </a:solidFill>
                <a:latin typeface="Arial"/>
              </a:rPr>
              <a:t>Mark 8:31; Matt. 16:21; Luke 9:22</a:t>
            </a:r>
            <a:endParaRPr b="0" lang="en-US" sz="28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att. 16:21 (NKJV):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Arial"/>
              </a:rPr>
              <a:t>From that time Jesus began to show to His disciples that He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Arial"/>
              </a:rPr>
              <a:t>must go to Jerusalem</a:t>
            </a:r>
            <a:r>
              <a:rPr b="0" i="1" lang="en-US" sz="2800" spc="-1" strike="noStrike">
                <a:solidFill>
                  <a:srgbClr val="dddddd"/>
                </a:solidFill>
                <a:latin typeface="Arial"/>
              </a:rPr>
              <a:t>, and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Arial"/>
              </a:rPr>
              <a:t>suffer many things</a:t>
            </a:r>
            <a:r>
              <a:rPr b="0" i="1" lang="en-US" sz="2800" spc="-1" strike="noStrike">
                <a:solidFill>
                  <a:srgbClr val="dddddd"/>
                </a:solidFill>
                <a:latin typeface="Arial"/>
              </a:rPr>
              <a:t> from the elders and chief priests and scribes, and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Arial"/>
              </a:rPr>
              <a:t>be killed</a:t>
            </a:r>
            <a:r>
              <a:rPr b="0" i="1" lang="en-US" sz="2800" spc="-1" strike="noStrike">
                <a:solidFill>
                  <a:srgbClr val="dddddd"/>
                </a:solidFill>
                <a:latin typeface="Arial"/>
              </a:rPr>
              <a:t>, and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Arial"/>
              </a:rPr>
              <a:t>be raised</a:t>
            </a:r>
            <a:r>
              <a:rPr b="0" i="1" lang="en-US" sz="2800" spc="-1" strike="noStrike">
                <a:solidFill>
                  <a:srgbClr val="dddddd"/>
                </a:solidFill>
                <a:latin typeface="Arial"/>
              </a:rPr>
              <a:t> the third day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300"/>
              </a:spcAft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Remember the sign He gave the Pharisees and the Sadducees about Jonah in Matt. 16:4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740-7D12-4AF0-9569-7AD7777EF2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Jesus Foretells His Kingdom</a:t>
            </a:r>
            <a:br>
              <a:rPr sz="4000"/>
            </a:br>
            <a:r>
              <a:rPr b="0" lang="en-US" sz="2800" spc="-1" strike="noStrike">
                <a:solidFill>
                  <a:srgbClr val="00cccc"/>
                </a:solidFill>
                <a:latin typeface="Arial"/>
              </a:rPr>
              <a:t>Matt. 16:28; Mark 9:1; Luke 9:27</a:t>
            </a:r>
            <a:endParaRPr b="0" lang="en-US" sz="28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atthew 16:28 (NKJV):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Assuredly, I say to you, there are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ome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 standing here who shall not taste death till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hey</a:t>
            </a:r>
            <a:r>
              <a:rPr b="0" i="1" lang="en-US" sz="2400" spc="-1" strike="noStrike" u="sng">
                <a:solidFill>
                  <a:srgbClr val="dddddd"/>
                </a:solidFill>
                <a:uFillTx/>
                <a:latin typeface="Arial"/>
              </a:rPr>
              <a:t> see the Son of Man coming in His kingdom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ark 9:1 (NKJV):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And He said to them, “Assuredly, I say to you that there are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ome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 standing here who will not taste death till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hey</a:t>
            </a:r>
            <a:r>
              <a:rPr b="0" i="1" lang="en-US" sz="2400" spc="-1" strike="noStrike" u="sng">
                <a:solidFill>
                  <a:srgbClr val="dddddd"/>
                </a:solidFill>
                <a:uFillTx/>
                <a:latin typeface="Arial"/>
              </a:rPr>
              <a:t> see the kingdom of God present with power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Luke 9:27 (NKJV):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But I tell you truly, there are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ome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 standing here who shall not taste death till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hey</a:t>
            </a:r>
            <a:r>
              <a:rPr b="0" i="1" lang="en-US" sz="2400" spc="-1" strike="noStrike" u="sng">
                <a:solidFill>
                  <a:srgbClr val="dddddd"/>
                </a:solidFill>
                <a:uFillTx/>
                <a:latin typeface="Arial"/>
              </a:rPr>
              <a:t> see the kingdom of God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5CA2-2C08-43B1-84FC-FC0C528ED7D1}" type="slidenum">
              <a:t>5</a:t>
            </a:fld>
          </a:p>
        </p:txBody>
      </p:sp>
    </p:spTree>
  </p:cSld>
  <p:transition spd="med">
    <p:zoom dir="in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The Terms of Discipleship</a:t>
            </a:r>
            <a:br>
              <a:rPr sz="4000"/>
            </a:br>
            <a:r>
              <a:rPr b="0" lang="en-US" sz="2800" spc="-1" strike="noStrike">
                <a:solidFill>
                  <a:srgbClr val="00cccc"/>
                </a:solidFill>
                <a:latin typeface="Arial"/>
              </a:rPr>
              <a:t>Mark 8:34-38; Matt. 16:24-27; Luke 9:23-26</a:t>
            </a:r>
            <a:endParaRPr b="0" lang="en-US" sz="28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Jesus said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If you follow me, you must deny yourself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Whoever saves his life shall lose it; whoever loses his life shall save i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If you gain the whole world, and lose your soul, what have you accomplished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If you are ashamed of me and my words, I will be ashamed of you when I return in glor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15FE-13EA-42CF-83B0-D857620F46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The Transfiguration</a:t>
            </a:r>
            <a:br>
              <a:rPr sz="4000"/>
            </a:br>
            <a:r>
              <a:rPr b="0" lang="en-US" sz="2800" spc="-1" strike="noStrike">
                <a:solidFill>
                  <a:srgbClr val="00cccc"/>
                </a:solidFill>
                <a:latin typeface="Arial"/>
              </a:rPr>
              <a:t>Mark 9:2-8; Matt. 17:1-8; Luke 9:28-36</a:t>
            </a:r>
            <a:endParaRPr b="0" lang="en-US" sz="28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 days later, Jesus took Peter, James and John upon a mountain to pray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Jesus was transfigured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His face was changed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His clothes were shining bright, glistering white as snow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Moses and Elijah talked with Jesu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Peter suggested they build three tabernacles for them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C9F8-3F36-4449-94FB-D1FB20DCC1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The Transfiguration</a:t>
            </a:r>
            <a:br>
              <a:rPr sz="4000"/>
            </a:br>
            <a:r>
              <a:rPr b="0" lang="en-US" sz="2800" spc="-1" strike="noStrike">
                <a:solidFill>
                  <a:srgbClr val="00cccc"/>
                </a:solidFill>
                <a:latin typeface="Arial"/>
              </a:rPr>
              <a:t>Mark 9:2-8; Matt. 17:1-8; Luke 9:28-36</a:t>
            </a:r>
            <a:endParaRPr b="0" lang="en-US" sz="28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A cloud overshadowed them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A voice said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s is my beloved Son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ar him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uddenly, they turned and Jesus was alone with them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EE95-E332-4CC4-BF62-BB79B51DC0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cc"/>
                </a:solidFill>
                <a:latin typeface="Arial"/>
              </a:rPr>
              <a:t>Questions About Elijah...</a:t>
            </a:r>
            <a:br>
              <a:rPr sz="4000"/>
            </a:br>
            <a:r>
              <a:rPr b="0" lang="en-US" sz="2800" spc="-1" strike="noStrike">
                <a:solidFill>
                  <a:srgbClr val="00cccc"/>
                </a:solidFill>
                <a:latin typeface="Arial"/>
              </a:rPr>
              <a:t>Mark 9:9-13; Matt. 17:9-13; Luke 9:36</a:t>
            </a:r>
            <a:endParaRPr b="0" lang="en-US" sz="28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y were to tell no man what they had seen until Jesus was raised from the dead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y asked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Arial"/>
              </a:rPr>
              <a:t>"Why do the scribes say that Elijah must come first?“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He explained that Elijah had already com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en, they understood He spoke of John the Baptis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95AB-4F51-4683-A580-E3F4B7459F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23:11:14Z</dcterms:created>
  <dc:creator>Frank D Vines</dc:creator>
  <dc:description/>
  <dc:language>en-US</dc:language>
  <cp:lastModifiedBy>Frank D Vines</cp:lastModifiedBy>
  <dcterms:modified xsi:type="dcterms:W3CDTF">2006-09-24T13:47:31Z</dcterms:modified>
  <cp:revision>17</cp:revision>
  <dc:subject/>
  <dc:title>“Sir, We Would See Jesus”</dc:title>
</cp:coreProperties>
</file>